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DC9-5834-4D0D-9F7B-34D88CD4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45C-CE28-4BC1-A2FF-2FA4DE1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EBE-87A2-4832-B29B-7F8F681E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3F9-422A-4A77-B993-B9634FCC8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C5A-BDA0-495D-9A1A-9D78C908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FEE-73B6-4923-83F6-953A9CF3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127-4761-4916-A769-4C467326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9E5C-ED1D-4136-A70D-45541234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692-650D-480F-8620-D25BB0D3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DE9-1642-46A5-AC11-E47DAD68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C15-86BC-4385-8716-1BEDB7FE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4854-9046-4123-93B2-E1D09153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8E63-357C-4CA0-A954-AAA1EE3CFA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stockphoto.com/stock-illustration-10153654-married-couples.php" TargetMode="External"/><Relationship Id="rId2" Type="http://schemas.openxmlformats.org/officeDocument/2006/relationships/hyperlink" Target="http://www.impactlab.net/2010/03/20/study-married-couples-twice-as-likely-to-become-fat/onslow-and-daisy-keeping-up-appearances" TargetMode="External"/><Relationship Id="rId3" Type="http://schemas.openxmlformats.org/officeDocument/2006/relationships/hyperlink" Target="http://www.google.ca/imgres?imgurl=http://nationalityinworldhistory.net/images/polygyny_family_nigeria.jpg&amp;imgrefurl=http" TargetMode="External"/><Relationship Id="rId4" Type="http://schemas.openxmlformats.org/officeDocument/2006/relationships/hyperlink" Target="http://www.google.ca/imgres?imgurl=http://nationalityinworldhistory.net/images/polygyny_family_nigeria.jpg&amp;imgrefurl=http" TargetMode="External"/><Relationship Id="rId5" Type="http://schemas.openxmlformats.org/officeDocument/2006/relationships/hyperlink" Target="http://www.google.ca/imgres?imgurl=http://nationalityinworldhistory.net/images/polygyny_family_nigeria.jpg&amp;imgrefurl=http" TargetMode="External"/><Relationship Id="rId6" Type="http://schemas.openxmlformats.org/officeDocument/2006/relationships/hyperlink" Target="http://www.google.ca/imgres?imgurl=http://nationalityinworldhistory.net/images/polygyny_family_nigeria.jpg&amp;imgrefurl=http" TargetMode="External"/><Relationship Id="rId7" Type="http://schemas.openxmlformats.org/officeDocument/2006/relationships/hyperlink" Target="http://www.google.ca/imgres?imgurl=http://nationalityinworldhistory.net/images/polygyny_family_nigeria.jpg&amp;imgrefurl=http" TargetMode="External"/><Relationship Id="rId8" Type="http://schemas.openxmlformats.org/officeDocument/2006/relationships/hyperlink" Target="http://www.google.ca/imgres?imgurl=http://www.examiner.com/images/blog/wysiwyg/image/marriage(14).jpg&amp;imgrefurl=http://" TargetMode="External"/><Relationship Id="rId9" Type="http://schemas.openxmlformats.org/officeDocument/2006/relationships/hyperlink" Target="http://www.google.ca/imgres?imgurl=http://www.examiner.com/images/blog/wysiwyg/image/marriage(14).jpg&amp;imgrefurl=http://" TargetMode="External"/><Relationship Id="rId10" Type="http://schemas.openxmlformats.org/officeDocument/2006/relationships/hyperlink" Target="http://www.google.ca/imgres?imgurl=http://www.examiner.com/images/blog/wysiwyg/image/marriage(14).jpg&amp;imgrefurl=http:/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HS 4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and Families in a Diverse Socie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 Three – Cou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pter Six – Marriage, Intimate Relationships, &amp; 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371600"/>
          <a:ext cx="8229600" cy="5149800"/>
        </p:xfrm>
        <a:graphic>
          <a:graphicData uri="http://schemas.openxmlformats.org/drawingml/2006/table">
            <a:tbl>
              <a:tblPr/>
              <a:tblGrid>
                <a:gridCol w="3276720"/>
                <a:gridCol w="49528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1 Patrilocal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family or kinship group is located near the husband’s family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2 Polyandr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actice of a wife having several husband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3 Polygyn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actice of a man having more than one wif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4 Serial Monogam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riage to several spouses, one after anothe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5 Patriarch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organization in which men wield power &amp; are the decision maker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History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is one of the earliest developments as humans began to organize themselv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father could be identifi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to do with lo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mily became the economic un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ygyny was more common than monogam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changes as the male can no longer support more than one wif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yandry occurs as the nation is so poor that multiple men need to support one wif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yn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0592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45820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rriage in Ancient Tim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fer to textbook – page 165 – 16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Hebre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Rom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Middle Ages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343400" y="2362320"/>
            <a:ext cx="3733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rriage in Canad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riginal tribes were matrilineal (female trace) &amp;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trilocal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women remains near her family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riage might only occur when a child is bor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marriages were arrang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hers were given legal authority over their wives &amp; child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arriage in Canad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nch &amp; British settlers brought to Canada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atriarchal, patriline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male ancestor) system of the Christian Chu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contracts by the Hudson Bay Compan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th century marriages were arranged, but many still were free-cho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ed under the supervision of their par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orce was illegal in Ontario until 1930 &amp; in Quebec until 196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orce was  granted for few reasons without proof of adulte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1968 , divorce became legal -  feder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ntemporary Marriage &amp; Intimate Relationship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all Canadians pair for marriage or other conjugal relationships at some point in their l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ivorced, many continue to form a second union: 88% of adolescents aged 15 to 19 expect to marry &amp; stay with the same partner for lif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t what age to Canadians marry or form other relationships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What is the purpose of marriag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How has the changing role of women affected marriag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What role does cohabitation have in Canadian society?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iming for Marryi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key elements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ocial cloc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ersonal readin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make the ch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adians believed that 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ge 24 is the best to mar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ge 25 is the best to have first chil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s Canada states (2006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ge 29 married for wo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_  Age 31 married for m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young adults are delaying marriage, but not postponing sexual activit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habit before they marry, but it is not clear whether cohabitation is a cause or an effect of delayed marria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hy People Marr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pouses expect to be…</a:t>
            </a:r>
            <a:r>
              <a:rPr b="1" lang="en-US" sz="1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se friends, to love one another, &amp; to support each 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1984 stat – 75% of females consider “love strongly” as 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ity for happin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ving a lasting relationship as a couple was necessary for happines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sbands and wives assume they will enjoy an active sex lif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ional Fertility Study (1994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0% of women state sexual attraction was absolutely necessary for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said sexual fidelity was necessary for a marriage to las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riage adds something positive to a relationshi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0400" y="82512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Arial"/>
                <a:ea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17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  <a:ea typeface="Arial"/>
              </a:rPr>
              <a:t>Chapter Six – Marriage, Intimate Relationships &amp; Soci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pter Seven – Intimate Relationships &amp;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hapter Eight – Relationships Issues &amp; Trend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77120" y="91440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 Why People Marr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p 8 Reasons Why Peop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Choose Partners and Marry (200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ng to a 2004 Vanier Institute of the Family survey, Canadians of all ages reported that getting married at some point was “very important” (8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81480" y="1752480"/>
          <a:ext cx="3429000" cy="3218040"/>
        </p:xfrm>
        <a:graphic>
          <a:graphicData uri="http://schemas.openxmlformats.org/drawingml/2006/table">
            <a:tbl>
              <a:tblPr/>
              <a:tblGrid>
                <a:gridCol w="648000"/>
                <a:gridCol w="2781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f that marriage signifies commit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l valu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f that should have married par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thing to 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nancial 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us belie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sure from fami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sure from frie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10 Characteristics That People Want in a Partner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Vanier Institute of the Fami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00200" y="1752480"/>
          <a:ext cx="5486400" cy="4556160"/>
        </p:xfrm>
        <a:graphic>
          <a:graphicData uri="http://schemas.openxmlformats.org/drawingml/2006/table">
            <a:tbl>
              <a:tblPr/>
              <a:tblGrid>
                <a:gridCol w="1143000"/>
                <a:gridCol w="4343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nes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nd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ec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ti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m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enda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us Common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Identity in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riage acquires the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tatu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husband &amp; wif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Symbolic Interactionis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by interacting with others who see them as a husband or a wife, individuals take on the appropriate martial ro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must be adjusted to share themselves with an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ller families require less emphasis on parenting and greater emphasis on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 more willing to marry and others less wil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times people marry after a crisis – death of a parent, w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ip side to that, some people who have experienced their parent’s divorce are less like to marr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men who are cohabiting are more likely to separate from their relationship than if they were mar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Economics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 have a goal-oriented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nstrumental ro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providing for the family – working &amp; earning an inco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le, women have an emotional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xpressive ro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f providing a supportive home for husband and child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men &amp; women associate marriage with negative gender ro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n feel pressure to provi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feel pressure in housework/childcare while maintaining a care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ual-income families are becoming the norm, thus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qualitarian relationshi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llow men &amp; women to share responsibili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habit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do people cohabi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ommon is cohabitation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the marriage rate for cohabiting couples?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habitati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of young Canadians live together in their first conjugal relationship – 199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2006 Census, 11% of adults were common-law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see living together before marriage is a prelude to marri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Fertility Study 1993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 of married women &amp; 82% of divorce/separated aid that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“cohabiting was acceptable as insurance that marriage will last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but, less acceptable if the couple does not make a long term commitment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% of Canadians will marry after living together for an average of 2.3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The Future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te the common assumption that men &amp; women will meet, fall in love, marry in their early 20’s and stay married to the same partner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here has been constant change in the pattern of marriage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ble divorce r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ples who no longer love one another no longer need to stay toge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habitation would also threaten the stability of marria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haps the various controversies concerning the choice to marry will require a redefinition &amp; clarification of marriage &amp; intimate relationships for future gener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loway, Maureen, Holloway,G., Witte, J. (2003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ividuals and Families in a Diverse Society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cGraw-Hill Ryerson., Toron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nier Institute of the Family (2010)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amilies Count: Profiling Canada’s Famil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Canadian Heritage., Ottaw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istockphoto.com/stock-illustration-10153654-married-couples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http://www.impactlab.net/2010/03/20/study-married-couples-twice-as-likely-to-become-fat/onslow-and-daisy-keeping-up-appear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ttp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://www.google.ca/imgres?imgurl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5"/>
              </a:rPr>
              <a:t>=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6"/>
              </a:rPr>
              <a:t>http://nationalityinworldhistory.net/images/polygyny_family_nigeria.jpg&amp;imgrefurl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7"/>
              </a:rPr>
              <a:t>=ht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8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9"/>
              </a:rPr>
              <a:t>www.google.ca/imgres?imgurl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0"/>
              </a:rPr>
              <a:t>=http://www.examiner.com/images/blog/wysiwyg/image/marriage(14).jpg&amp;imgrefurl=http:/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Introduc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urpose of Marri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istory of Marria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mporary Marriage &amp; Intimate Relationsh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People Mar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 Matters: Marriage &amp; Cohab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Future of Marri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72200" y="2819520"/>
            <a:ext cx="228600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 Purpose of Marriag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arria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fined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socially legitimate sexual union, begun with a public announcement &amp; with some idea of permanence &amp; assumed with a more or less explicit contract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rriage varies widely; give some exampl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7524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 Pair-Bond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pair-bon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essential to the survival of huma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as an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“an enduring relationship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s reproduction &amp; protection of childr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tural, biological thing – to fall in love is a human tradema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181480" y="2362320"/>
            <a:ext cx="320040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tructural Functionalists View of Marriage</a:t>
            </a:r>
            <a:r>
              <a:rPr b="0" lang="en-US" sz="4000" spc="-1" strike="noStrike">
                <a:solidFill>
                  <a:srgbClr val="3e3e5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is a social institution that developed as an important part of human ne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brings order to socie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xual reproduc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ocialization of childr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vision of lab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alist argue that people are happiest if they mar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eople Marry for Personal Reas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believe that being married confers their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dult stat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within society &amp; fami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day people might have sexual relationships before marriage, but often marry because they want childr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riage allows individuals to share resources to improve the standard of liv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s a sense of purp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ting married is a cultural expec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social circles are based on coup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ocial Exchange Theor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believe that being married is better than being sing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54864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 Betrothal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promise to marr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2  Bride Price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yment by a groom or his family to the bride’s fami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3 Conjugal Relationships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relationship based on sexual union; includes marriage &amp; cohabitatio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4 Dower Rights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rights of a wife to a share of he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sband’s property if he dies before he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5 Dowry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yment, in the form of money, land, or household items, given to a bride by the bride’s family to help her set up her new h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219320"/>
          <a:ext cx="8229600" cy="512892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6 Egalitarian Relationships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imate relationships in which men &amp; women share the responsibilities rather than adhere to fixed gender role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7 Expressive Role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men’s emotional role of providing support for their familie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8 Instrumental Role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n’s goal-oriented role of providing for the family by working &amp; earning an inco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9 Matrilocal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family or kinship group is located near the wife’s famil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10 Pair-bond</a:t>
                      </a:r>
                      <a:r>
                        <a:rPr b="0" lang="en-US" sz="24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enduring relationship between men&amp; women, thought to be essential to human survival &amp; a trademark of being huma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13:43:51Z</dcterms:created>
  <dc:creator>OCDSB User</dc:creator>
  <dc:description/>
  <dc:language>en-US</dc:language>
  <cp:lastModifiedBy>OCDSB User</cp:lastModifiedBy>
  <dcterms:modified xsi:type="dcterms:W3CDTF">2011-04-05T13:39:56Z</dcterms:modified>
  <cp:revision>23</cp:revision>
  <dc:subject/>
  <dc:title>    </dc:title>
</cp:coreProperties>
</file>